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3833640" y="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8"/>
          </p:nvPr>
        </p:nvSpPr>
        <p:spPr>
          <a:xfrm>
            <a:off x="-360" y="940896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9"/>
          </p:nvPr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C624-0F4A-4B89-8910-B55A52F27F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33640" y="9408960"/>
            <a:ext cx="2934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F23D-9588-42E0-9EA0-B4CB27C3AC8A}" type="slidenum">
              <a:rPr b="0" lang="en-US" sz="1200" spc="-1" strike="noStrike">
                <a:solidFill>
                  <a:srgbClr val="02416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97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6440" y="4704840"/>
            <a:ext cx="54165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58A-8945-4AA4-9CC4-351FE10A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456-4DAB-4A4B-852E-12BFB4CB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40F-80C8-43D2-A6F0-909CB997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989-6D68-4F15-B837-ECB75604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051-00E1-4D70-925E-3A1305CD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410-DE04-47AE-ADC5-414D321D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FBB-8DB5-4AA0-8C0C-CD8C52DD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D3E-0BF6-4BE9-9E04-71A6393E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D83-736F-424D-8491-D3842D79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04B-D3A8-428C-AEFF-1F31136F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C5F-4F87-4B8B-BD8E-9CBB9FE0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AB9-CBD0-4B19-AB59-926666D4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3CCD-6BAB-4689-9472-BB9F01FE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0A8C-F8B2-4F5D-BAF8-949A72C1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193A-6753-4172-AC6B-93D7545C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E1A3-184E-4805-9723-F22C7AA9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0FAE-77B5-4A44-AB1F-5BD0F978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3FB2-DB5E-4A15-9746-03A27BA8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DA92-A27B-4E3E-9141-27F5351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09F2-1FF9-4C79-AE9B-E73AE137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7586-54B3-48AB-854D-E3D8E61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0FE7-436C-442D-BC3F-ACAF061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D88F-4BDD-49F3-9135-5F061FB8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DC36-5015-4703-B939-8AAED5A4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9880" y="33480"/>
            <a:ext cx="610704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8600" y="1101600"/>
            <a:ext cx="752292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spcBef>
                <a:spcPts val="1001"/>
              </a:spcBef>
              <a:buClr>
                <a:srgbClr val="5b96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1001"/>
              </a:spcBef>
              <a:buClr>
                <a:srgbClr val="5b96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8680" indent="-228600">
              <a:spcBef>
                <a:spcPts val="1001"/>
              </a:spcBef>
              <a:buClr>
                <a:srgbClr val="5b96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36560" indent="-228600">
              <a:spcBef>
                <a:spcPts val="1001"/>
              </a:spcBef>
              <a:buClr>
                <a:srgbClr val="5b96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5b96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241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2416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7599-5EDD-4C69-949F-50A2D48C305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84DB-C77D-4B7F-A748-99C2664C0B0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24165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2416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760027"/>
                </a:solidFill>
                <a:latin typeface="Tw Cen MT"/>
              </a:rPr>
              <a:t>Introduction to Social Network Analysis</a:t>
            </a:r>
            <a:r>
              <a:rPr b="1" lang="en-GB" sz="36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Tw Cen MT"/>
              </a:rPr>
              <a:t> </a:t>
            </a: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33"/>
                </a:solidFill>
                <a:latin typeface="Tw Cen MT"/>
              </a:rPr>
              <a:t>Possible applications of S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676520"/>
            <a:ext cx="764244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Within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Identify innovative produc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Identify other projects with similar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In value ch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In innovation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  <a:ea typeface="Times New Roman"/>
              </a:rPr>
              <a:t>In organis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Know what is happening in different departments within an institution (organigrams are a poor reflection of information fl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Relationships with field offices and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0280" y="246240"/>
            <a:ext cx="721836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900" spc="-1" strike="noStrike">
                <a:solidFill>
                  <a:srgbClr val="660033"/>
                </a:solidFill>
                <a:latin typeface="Tw Cen MT"/>
              </a:rPr>
              <a:t>How can SNA help us with our work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60920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existing information flows and bottlenecks to understand which groups have access to information and which groups are excluded from access to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actors who play similar roles in the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disconnected groups in the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dentify opinion leaders who will be able to effectively disseminate information and promote inno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Your suggestions…..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9400" y="1187280"/>
            <a:ext cx="3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24165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24165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900" spc="-1" strike="noStrike">
                <a:solidFill>
                  <a:srgbClr val="660033"/>
                </a:solidFill>
                <a:latin typeface="Tw Cen MT"/>
              </a:rPr>
              <a:t>Group 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1124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SNA uses data about relationships between ac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Please work in groups and discu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Which actors do we work with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What is the nature of the relationships between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What would be the advantage for our projects of being able to visualise these relationship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Tw Cen MT"/>
              </a:rPr>
              <a:t>As development professionals what is our own relationship to these different group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09120" y="2471760"/>
            <a:ext cx="77742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800" spc="-1" strike="noStrike">
                <a:solidFill>
                  <a:srgbClr val="000000"/>
                </a:solidFill>
                <a:latin typeface="Tw Cen MT"/>
              </a:rPr>
              <a:t>Thank you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85960" y="245880"/>
            <a:ext cx="495144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900" spc="-1" strike="noStrike">
                <a:solidFill>
                  <a:srgbClr val="660033"/>
                </a:solidFill>
                <a:latin typeface="Tw Cen MT"/>
              </a:rPr>
              <a:t>Network The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5920" y="1227240"/>
            <a:ext cx="76057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conomic activity is intrinsically related to social structures which has led to development agencies’ interest in soci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position of an actor in the network influences their ability to access resources such as goods, capital an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ll connected actors have better access to information and other resources and therefore have more opportunities than less well connected 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3240" y="617040"/>
            <a:ext cx="64137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33"/>
                </a:solidFill>
                <a:latin typeface="Tw Cen MT"/>
              </a:rPr>
              <a:t>What is social network analysis (SNA)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5160" y="1773000"/>
            <a:ext cx="8513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etworks are created by the relationships between different 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NA examines the relationships between actors and the social structures in which they interact to gain a better understanding of actors’ roles within the social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NA is the study of how the ties in networks create opportunities and restrictions which affect both individual and institutional access to resources such as information, finance, goods and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900" spc="-1" strike="noStrike">
                <a:solidFill>
                  <a:srgbClr val="660033"/>
                </a:solidFill>
                <a:latin typeface="Tw Cen MT"/>
              </a:rPr>
              <a:t>Factors to consider during survey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ep questions short and simple and avoid collecting data that will not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idea of this diagnostic approach is to obtain the maximum information in minimal time to get a birds eye view of the areas where we are wor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5943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900" spc="-1" strike="noStrike">
                <a:solidFill>
                  <a:srgbClr val="660033"/>
                </a:solidFill>
                <a:latin typeface="Tw Cen MT"/>
              </a:rPr>
              <a:t>Sample Survey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6600" y="1452600"/>
          <a:ext cx="7783200" cy="2335320"/>
        </p:xfrm>
        <a:graphic>
          <a:graphicData uri="http://schemas.openxmlformats.org/drawingml/2006/table">
            <a:tbl>
              <a:tblPr/>
              <a:tblGrid>
                <a:gridCol w="2358720"/>
                <a:gridCol w="2325960"/>
                <a:gridCol w="3098520"/>
              </a:tblGrid>
              <a:tr h="136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Actor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(Information source)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Information obtained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Communication media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35040" y="4259160"/>
          <a:ext cx="7700760" cy="2355840"/>
        </p:xfrm>
        <a:graphic>
          <a:graphicData uri="http://schemas.openxmlformats.org/drawingml/2006/table">
            <a:tbl>
              <a:tblPr/>
              <a:tblGrid>
                <a:gridCol w="2199960"/>
                <a:gridCol w="2220840"/>
                <a:gridCol w="3279960"/>
              </a:tblGrid>
              <a:tr h="136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Actor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(Information source)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Information obtained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How useful?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1=min, 5=max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1     2     3     4    5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600" spc="-1" strike="noStrike">
                          <a:solidFill>
                            <a:srgbClr val="330066"/>
                          </a:solidFill>
                          <a:latin typeface="Tw Cen MT"/>
                        </a:rPr>
                        <a:t>1     2     3     4    5</a:t>
                      </a:r>
                      <a:endParaRPr b="0" lang="en-US" sz="2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609480" y="762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24165"/>
                </a:solidFill>
                <a:latin typeface="Tw Cen MT"/>
              </a:rPr>
              <a:t>Survey with 2 variables</a:t>
            </a:r>
            <a:endParaRPr b="0" lang="en-US" sz="2400" spc="-1" strike="noStrike">
              <a:solidFill>
                <a:srgbClr val="024165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2760" y="388296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24165"/>
                </a:solidFill>
                <a:latin typeface="Tw Cen MT"/>
              </a:rPr>
              <a:t>Valued survey</a:t>
            </a:r>
            <a:endParaRPr b="0" lang="en-US" sz="2400" spc="-1" strike="noStrike">
              <a:solidFill>
                <a:srgbClr val="024165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33"/>
                </a:solidFill>
                <a:latin typeface="Tw Cen MT"/>
              </a:rPr>
              <a:t>Linkage maps and matri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ctor linkage matrices (Biggs and Matsaert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ocial Network Analysis Using UCINET (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Steve Borgatti, Martin Everett and Lin Free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w Cen MT"/>
              </a:rPr>
              <a:t>Examples (FAP, 2010 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1719360"/>
          <a:ext cx="9144000" cy="4854600"/>
        </p:xfrm>
        <a:graphic>
          <a:graphicData uri="http://schemas.openxmlformats.org/drawingml/2006/table">
            <a:tbl>
              <a:tblPr/>
              <a:tblGrid>
                <a:gridCol w="1913040"/>
                <a:gridCol w="804600"/>
                <a:gridCol w="803520"/>
                <a:gridCol w="803160"/>
                <a:gridCol w="801720"/>
                <a:gridCol w="804960"/>
                <a:gridCol w="801720"/>
                <a:gridCol w="804600"/>
                <a:gridCol w="803520"/>
                <a:gridCol w="80316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OoARD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DZARC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IPM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FAP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EMDTI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Ada’a Dairy Cooperative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Hundae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Land O Lake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Eden Field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OoARD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DZARC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IPM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FAP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EMDTI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Hundae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Land o Lakes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Eden Field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buClr>
                          <a:srgbClr val="669999"/>
                        </a:buClr>
                        <a:buSzPct val="7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  <a:ea typeface="Times New Roman"/>
                        </a:rPr>
                        <a:t>NA*</a:t>
                      </a:r>
                      <a:endParaRPr b="0" lang="en-US" sz="1600" spc="-1" strike="noStrike">
                        <a:solidFill>
                          <a:srgbClr val="02416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677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33"/>
                </a:solidFill>
                <a:latin typeface="Tw Cen MT"/>
              </a:rPr>
              <a:t>UCINET Net Map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301760" y="1400040"/>
            <a:ext cx="669276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20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33"/>
                </a:solidFill>
                <a:latin typeface="Tw Cen MT"/>
              </a:rPr>
              <a:t>SNA in rural develop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9760" y="1455840"/>
            <a:ext cx="79848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ocio-institutional framework in rural communities is incredibly complex with interactions between grassroots groups, NGOs, public and private sector institutions who can operate at local, regional, national or international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s is now recognised in work to promote ‘innovation platforms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udying networks can help us to understand the social structures and characteristics of relationships between the actors and institutions in the areas where we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NA can help identify the key actors who can support us in our work or obstruct our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25:37Z</dcterms:created>
  <dc:creator>Kebebe Ergano</dc:creator>
  <dc:description/>
  <dc:language>en-US</dc:language>
  <cp:lastModifiedBy>kergano</cp:lastModifiedBy>
  <dcterms:modified xsi:type="dcterms:W3CDTF">2010-11-07T21:46:33Z</dcterms:modified>
  <cp:revision>500</cp:revision>
  <dc:subject>Social Network Analysis</dc:subject>
  <dc:title>CPWF-N2 training Nov, 2010</dc:title>
</cp:coreProperties>
</file>